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2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6D1-C924-47A1-9C56-848B1626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618-CD9D-485A-88D1-14352602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1DD-D43C-435B-A10E-359A178E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BE0-9E42-4539-BDD8-12609A37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AE6-4EDF-4FC9-AED8-37BB168B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AF58-EDFB-40F2-A1F5-5F8F7695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C9F-2BD3-4A42-9E47-1676B725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566-9B4C-4F45-981A-EA9C8DAB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BDD-270A-4A27-B28E-3DA577CA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63D-8CCE-4A60-BADF-6858A849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DE9-D65F-4AF8-A577-0305FFD9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5F5-5A81-4EEE-A1F0-1BF52773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0F38-D8DE-4946-9BB6-D389A0F890D4}" type="datetime">
              <a:rPr b="0" lang="en-AU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4003-3F0B-4A82-987E-8B5FD17913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Gli stili di apprendiment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fferenti stili cogniti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fferenti personal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fferenti stili di apprendi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fferenti background familiari e cultur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https://encrypted-tbn1.gstatic.com/images?q=tbn:ANd9GcSeu3Z5fZa1K7h7sh6vHYd8KEB-ENvYIMqHFc6v71ktFVSsjIHf"/>
          <p:cNvPicPr/>
          <p:nvPr/>
        </p:nvPicPr>
        <p:blipFill>
          <a:blip r:embed="rId1"/>
          <a:stretch/>
        </p:blipFill>
        <p:spPr>
          <a:xfrm rot="1231800">
            <a:off x="4320720" y="5065560"/>
            <a:ext cx="1276560" cy="8575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7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1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13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5" descr=""/>
          <p:cNvPicPr/>
          <p:nvPr/>
        </p:nvPicPr>
        <p:blipFill>
          <a:blip r:embed="rId2"/>
          <a:stretch/>
        </p:blipFill>
        <p:spPr>
          <a:xfrm>
            <a:off x="6659640" y="1628640"/>
            <a:ext cx="1457280" cy="1571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"/>
          <p:cNvPicPr/>
          <p:nvPr/>
        </p:nvPicPr>
        <p:blipFill>
          <a:blip r:embed="rId3"/>
          <a:stretch/>
        </p:blipFill>
        <p:spPr>
          <a:xfrm>
            <a:off x="7162920" y="4562640"/>
            <a:ext cx="1981080" cy="229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"/>
          <p:cNvPicPr/>
          <p:nvPr/>
        </p:nvPicPr>
        <p:blipFill>
          <a:blip r:embed="rId4"/>
          <a:stretch/>
        </p:blipFill>
        <p:spPr>
          <a:xfrm rot="20839200">
            <a:off x="468000" y="47242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52" name="Segnaposto piè di pagina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79646"/>
                </a:solidFill>
                <a:latin typeface="Calibri"/>
              </a:rPr>
              <a:t>Da una ricerca emerge che……</a:t>
            </a:r>
            <a:br>
              <a:rPr sz="4000"/>
            </a:br>
            <a:r>
              <a:rPr b="0" i="1" lang="it-IT" sz="2800" spc="-1" strike="noStrike">
                <a:solidFill>
                  <a:srgbClr val="f79646"/>
                </a:solidFill>
                <a:latin typeface="Calibri"/>
              </a:rPr>
              <a:t>(Bettinell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gli studenti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prestano attenzione per circa il 40%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del tempo in una lezione tradizionale (ricerca Pollio, 1984). Anche gli studenti che sono più dotati hanno però difficoltà l’attenzione e l’interesse vivi per un’intera ora o più; dopo circa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10 minuti l’attenzione comincia a calare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 Mentre trattengono il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70 %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di quanto viene detto nei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primi 10 min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di una lezione di 50 min, negli ultimi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10 min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ricordano solo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il 20 %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(ricerca McKeachie,1986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GGIUNGEDO ELEMENTI VISIVI ALLA LEZIONE AUMENTA LA RITENZIONE DEI CONTENUTI DAL 14 AL 38 % (Pike, 1989)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79646"/>
                </a:solidFill>
                <a:latin typeface="Calibri"/>
              </a:rPr>
              <a:t>Da alcune ricerche svolte da Johnsons e Smith </a:t>
            </a:r>
            <a:r>
              <a:rPr b="0" i="1" lang="it-IT" sz="2800" spc="-1" strike="noStrike">
                <a:solidFill>
                  <a:srgbClr val="f79646"/>
                </a:solidFill>
                <a:latin typeface="Calibri"/>
              </a:rPr>
              <a:t>(199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ulla LEZIONE TRADIZIONA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attenzione degli studenti diminuisce ogni minuto che pas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attura solo le persone che hanno uno stile di apprendimento udi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arte dall’assunto che tutti gli studenti hanno bisogno delle stesse informazioni e allo stesso ritm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li studenti tendono a non amare le lezi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79646"/>
                </a:solidFill>
                <a:latin typeface="Calibri"/>
              </a:rPr>
              <a:t>WEB 2.0 &amp; DIDAT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599840"/>
            <a:ext cx="4762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Già dall’età prescolare i bambini sono abituati a vedere ogni sorta di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video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e a essere in “sintonia” con il mezzo televisivo; il linguaggio delle immagini in movimento viene da loro perfettamente assimilato e il video diviene presto un mezzo di </a:t>
            </a:r>
            <a:r>
              <a:rPr b="0" lang="it-IT" sz="3000" spc="-1" strike="noStrike">
                <a:solidFill>
                  <a:srgbClr val="ff0000"/>
                </a:solidFill>
                <a:latin typeface="Calibri"/>
              </a:rPr>
              <a:t>comunicazione passiva fondamentale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 rot="20497200">
            <a:off x="5532480" y="4433760"/>
            <a:ext cx="2965320" cy="2008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http://us.cdn4.123rf.com/168nwm/tatyanagl/tatyanagl1205/tatyanagl120500001/13472642-sorpreso-ragazza-con-le-compresse-in-mano-foto-flusso-di-informazioni-lettere-che-partono-dalla-tavo.jpg"/>
          <p:cNvPicPr/>
          <p:nvPr/>
        </p:nvPicPr>
        <p:blipFill>
          <a:blip r:embed="rId2"/>
          <a:stretch/>
        </p:blipFill>
        <p:spPr>
          <a:xfrm>
            <a:off x="5796000" y="1341360"/>
            <a:ext cx="1800360" cy="2606760"/>
          </a:xfrm>
          <a:prstGeom prst="rect">
            <a:avLst/>
          </a:prstGeom>
          <a:ln w="0">
            <a:noFill/>
          </a:ln>
        </p:spPr>
      </p:pic>
      <p:sp>
        <p:nvSpPr>
          <p:cNvPr id="95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encrypted-tbn1.gstatic.com/images?q=tbn:ANd9GcSkKGAyXmluIUqDtZRum5ts4N55Nc146rbnm2Cp8EXZ1A8Zr5lPUw"/>
          <p:cNvPicPr/>
          <p:nvPr/>
        </p:nvPicPr>
        <p:blipFill>
          <a:blip r:embed="rId1"/>
          <a:stretch/>
        </p:blipFill>
        <p:spPr>
          <a:xfrm>
            <a:off x="3924360" y="3166920"/>
            <a:ext cx="4608360" cy="3691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Quando giungono alla scuola superiore i ragazzi hanno dunque assimilato,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senza alcuna esperienza critica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un sistema di comunicazione forte, invasivo, ma soprattutto senza alcuna partecipazione diretta all’elaborazione dei contenuti e delle sue forme espress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https://encrypted-tbn1.gstatic.com/images?q=tbn:ANd9GcSnwWbUrMAQaqaGy1dIPD9nG4x4M2R_4Tb4YnHhtVwg6wQfadsp0g"/>
          <p:cNvPicPr/>
          <p:nvPr/>
        </p:nvPicPr>
        <p:blipFill>
          <a:blip r:embed="rId2"/>
          <a:stretch/>
        </p:blipFill>
        <p:spPr>
          <a:xfrm rot="20574000">
            <a:off x="2043000" y="4647960"/>
            <a:ext cx="1181160" cy="1584360"/>
          </a:xfrm>
          <a:prstGeom prst="rect">
            <a:avLst/>
          </a:prstGeom>
          <a:ln w="0">
            <a:noFill/>
          </a:ln>
        </p:spPr>
      </p:pic>
      <p:sp>
        <p:nvSpPr>
          <p:cNvPr id="99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Grazie alla rivoluzione digitale in campo video è però oggi possibile proporre un cambio di ruolo: da passivi utilizzatori gli studenti e gli insegnanti possono diventare </a:t>
            </a:r>
            <a:r>
              <a:rPr b="0" lang="it-IT" sz="3200" spc="-1" strike="noStrike">
                <a:solidFill>
                  <a:srgbClr val="ff0000"/>
                </a:solidFill>
                <a:latin typeface="Calibri"/>
              </a:rPr>
              <a:t>realizzatori attivi del messaggi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s://encrypted-tbn0.gstatic.com/images?q=tbn:ANd9GcQ3rqMvWSRSAXXBQ9rONpipaNSAhqrFxYlWwWV9Rv2P-PvrMgvuxA"/>
          <p:cNvPicPr/>
          <p:nvPr/>
        </p:nvPicPr>
        <p:blipFill>
          <a:blip r:embed="rId1"/>
          <a:stretch/>
        </p:blipFill>
        <p:spPr>
          <a:xfrm>
            <a:off x="5003640" y="2565360"/>
            <a:ext cx="3168720" cy="385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611280" y="3716280"/>
            <a:ext cx="2647800" cy="2648160"/>
          </a:xfrm>
          <a:prstGeom prst="rect">
            <a:avLst/>
          </a:prstGeom>
          <a:ln w="0">
            <a:noFill/>
          </a:ln>
        </p:spPr>
      </p:pic>
      <p:sp>
        <p:nvSpPr>
          <p:cNvPr id="103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Nuovi stili di apprendi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s://encrypted-tbn1.gstatic.com/images?q=tbn:ANd9GcSOBWmJaYUd3CTH6NoEV1aCjXfgnVcs_bgmEyo28k-iv2qM_3K_Aw"/>
          <p:cNvPicPr/>
          <p:nvPr/>
        </p:nvPicPr>
        <p:blipFill>
          <a:blip r:embed="rId1"/>
          <a:stretch/>
        </p:blipFill>
        <p:spPr>
          <a:xfrm rot="20421600">
            <a:off x="684360" y="170028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4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 rot="20820000">
            <a:off x="4363560" y="1434600"/>
            <a:ext cx="3024360" cy="2337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https://encrypted-tbn1.gstatic.com/images?q=tbn:ANd9GcRapYatspcMj9qtMobvEB7p2pmnTykhryZG3VfGvGq5z42KjkddTg"/>
          <p:cNvPicPr/>
          <p:nvPr/>
        </p:nvPicPr>
        <p:blipFill>
          <a:blip r:embed="rId3"/>
          <a:stretch/>
        </p:blipFill>
        <p:spPr>
          <a:xfrm rot="20428800">
            <a:off x="900000" y="4005360"/>
            <a:ext cx="3456000" cy="23511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9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4"/>
          <a:stretch/>
        </p:blipFill>
        <p:spPr>
          <a:xfrm rot="848400">
            <a:off x="5781240" y="4024440"/>
            <a:ext cx="2590920" cy="2555640"/>
          </a:xfrm>
          <a:prstGeom prst="rect">
            <a:avLst/>
          </a:prstGeom>
          <a:ln w="0">
            <a:noFill/>
          </a:ln>
        </p:spPr>
      </p:pic>
      <p:sp>
        <p:nvSpPr>
          <p:cNvPr id="111" name="Segnaposto piè di pagina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l giusto compromesso 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http://engage.intel.com/servlet/JiveServlet/showImage/2-66600-64143/BlendedLearning.gif"/>
          <p:cNvPicPr/>
          <p:nvPr/>
        </p:nvPicPr>
        <p:blipFill>
          <a:blip r:embed="rId1"/>
          <a:stretch/>
        </p:blipFill>
        <p:spPr>
          <a:xfrm>
            <a:off x="971640" y="1628640"/>
            <a:ext cx="7216560" cy="4392720"/>
          </a:xfrm>
          <a:prstGeom prst="rect">
            <a:avLst/>
          </a:prstGeom>
          <a:ln w="0">
            <a:noFill/>
          </a:ln>
        </p:spPr>
      </p:pic>
      <p:sp>
        <p:nvSpPr>
          <p:cNvPr id="114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Biblliograf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Kit bussola: teorie, metodologie e strumenti didattici ed educativi al servizio della didattica  a cura di Ercoli Lu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itograf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Alberto Pian, http://web.mac.home/arakhne/Home/Home.htm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Ufficio scolastico provinciale di Mila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www.milano.istruzione.lombardia.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79646"/>
                </a:solidFill>
                <a:latin typeface="Calibri"/>
              </a:rPr>
              <a:t>Metodo di KOLB </a:t>
            </a:r>
            <a:r>
              <a:rPr b="0" lang="it-IT" sz="1800" spc="-1" strike="noStrike">
                <a:solidFill>
                  <a:srgbClr val="f79646"/>
                </a:solidFill>
                <a:latin typeface="Calibri"/>
              </a:rPr>
              <a:t>(197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Segnaposto contenuto 4" descr=""/>
          <p:cNvPicPr/>
          <p:nvPr/>
        </p:nvPicPr>
        <p:blipFill>
          <a:blip r:embed="rId1"/>
          <a:stretch/>
        </p:blipFill>
        <p:spPr>
          <a:xfrm>
            <a:off x="487440" y="1359000"/>
            <a:ext cx="8418600" cy="5578200"/>
          </a:xfrm>
          <a:prstGeom prst="rect">
            <a:avLst/>
          </a:prstGeom>
          <a:ln w="0">
            <a:noFill/>
          </a:ln>
        </p:spPr>
      </p:pic>
      <p:sp>
        <p:nvSpPr>
          <p:cNvPr id="55" name="Titolo 1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79646"/>
                </a:solidFill>
                <a:latin typeface="Calibri"/>
              </a:rPr>
              <a:t>NON TUTTI IMPARIAMO ALLO STESSO MOD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egnaposto piè di pagina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4000" y="2349360"/>
            <a:ext cx="5327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modello di KOLB ha il privilegio di fornire diversi spunti su come condurre gruppi di lavoro di differente provenienza cultura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Non tutte le persone imparano meglio dalla “</a:t>
            </a:r>
            <a:r>
              <a:rPr b="0" i="1" lang="it-IT" sz="3000" spc="-1" strike="noStrike">
                <a:solidFill>
                  <a:srgbClr val="000000"/>
                </a:solidFill>
                <a:latin typeface="Calibri"/>
              </a:rPr>
              <a:t>spiegazione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“ della lezione del docent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 rot="572400">
            <a:off x="64908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79646"/>
                </a:solidFill>
                <a:latin typeface="Calibri"/>
              </a:rPr>
              <a:t>IL DOCENTE DEVE TENER CONTO DI QUESTA VARIABILE IN MODO DA UTILIZZARE UNA DIDATTICA PIU’ EFFIC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 rot="20778000">
            <a:off x="6084720" y="3500280"/>
            <a:ext cx="2409840" cy="1895760"/>
          </a:xfrm>
          <a:prstGeom prst="rect">
            <a:avLst/>
          </a:prstGeom>
          <a:ln w="0">
            <a:noFill/>
          </a:ln>
        </p:spPr>
      </p:pic>
      <p:sp>
        <p:nvSpPr>
          <p:cNvPr id="60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79646"/>
                </a:solidFill>
                <a:latin typeface="Calibri"/>
              </a:rPr>
              <a:t>L’apprendimento è concepito come un ciclo a 4 stad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Segnaposto contenuto 4" descr=""/>
          <p:cNvPicPr/>
          <p:nvPr/>
        </p:nvPicPr>
        <p:blipFill>
          <a:blip r:embed="rId1"/>
          <a:stretch/>
        </p:blipFill>
        <p:spPr>
          <a:xfrm>
            <a:off x="334800" y="1079640"/>
            <a:ext cx="2859120" cy="2322360"/>
          </a:xfrm>
          <a:prstGeom prst="rect">
            <a:avLst/>
          </a:prstGeom>
          <a:ln w="0">
            <a:noFill/>
          </a:ln>
        </p:spPr>
      </p:pic>
      <p:sp>
        <p:nvSpPr>
          <p:cNvPr id="63" name="CasellaDiTesto 4"/>
          <p:cNvSpPr/>
          <p:nvPr/>
        </p:nvSpPr>
        <p:spPr>
          <a:xfrm rot="596400">
            <a:off x="3048480" y="2909880"/>
            <a:ext cx="5905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 base a questo modello l’esperienza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ncreta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d immediata è alla base dell’osservazione e della riflessione, e fornisce spunti ed elementi che vengono integrate in una teo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 rot="21132600">
            <a:off x="456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79646"/>
                </a:solidFill>
                <a:latin typeface="Calibri"/>
              </a:rPr>
              <a:t>Esperienza concr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’è chi preferisce apprendere dall’esperienza diretta facendo affidamento sulle proprie sensazioni e sulle relazio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docente o il facilitatore ha la funzione di “accompagnatore” dell’esperienza fat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https://encrypted-tbn1.gstatic.com/images?q=tbn:ANd9GcS1V9eWLRPaoDgZH-VWgx64BKVfEbPeds0tY2ADANtD9KuMK4YK"/>
          <p:cNvPicPr/>
          <p:nvPr/>
        </p:nvPicPr>
        <p:blipFill>
          <a:blip r:embed="rId1"/>
          <a:stretch/>
        </p:blipFill>
        <p:spPr>
          <a:xfrm>
            <a:off x="5508720" y="2708280"/>
            <a:ext cx="1971720" cy="2324160"/>
          </a:xfrm>
          <a:prstGeom prst="rect">
            <a:avLst/>
          </a:prstGeom>
          <a:ln w="0">
            <a:noFill/>
          </a:ln>
        </p:spPr>
      </p:pic>
      <p:sp>
        <p:nvSpPr>
          <p:cNvPr id="68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 rot="19084800">
            <a:off x="259920" y="701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 rot="402000">
            <a:off x="2700000" y="403920"/>
            <a:ext cx="603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79646"/>
                </a:solidFill>
                <a:latin typeface="Calibri"/>
              </a:rPr>
              <a:t>Osservazione rifless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’è chi privilegia l’osservazione riflessiva, preferendo apprendere attraverso una attenta analisi di tutti gli elementi emersi dall’esperienza, cercando di cogliere differente prospettive dell’ev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insegnante qui ha la funzione di guida ed assegna i comp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63360" y="-15876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egnaposto piè di pagina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 rot="21116400">
            <a:off x="456840" y="27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79646"/>
                </a:solidFill>
                <a:latin typeface="Calibri"/>
              </a:rPr>
              <a:t>Concettualizzazione astrat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’è chi preferisce apprendere da un’elaborazione logico-razionale, deducendo quali siano le azioni da intraprendere in base ad un ragionamento, ad una spiegazione teor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insegnante ha la funzione di comunicatore dell’informazio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s://encrypted-tbn2.gstatic.com/images?q=tbn:ANd9GcSD0MVjme8me5MbBX3RyCT6SUY2F0jNNnjV2ANFXSMCNDxLCYoxcw"/>
          <p:cNvPicPr/>
          <p:nvPr/>
        </p:nvPicPr>
        <p:blipFill>
          <a:blip r:embed="rId1"/>
          <a:stretch/>
        </p:blipFill>
        <p:spPr>
          <a:xfrm rot="572400">
            <a:off x="5847840" y="4821120"/>
            <a:ext cx="2160720" cy="1676520"/>
          </a:xfrm>
          <a:prstGeom prst="rect">
            <a:avLst/>
          </a:prstGeom>
          <a:ln w="0">
            <a:noFill/>
          </a:ln>
        </p:spPr>
      </p:pic>
      <p:sp>
        <p:nvSpPr>
          <p:cNvPr id="77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 rot="303600">
            <a:off x="457200" y="27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79646"/>
                </a:solidFill>
                <a:latin typeface="Calibri"/>
              </a:rPr>
              <a:t>Sperimentazione at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 rot="21265800">
            <a:off x="458280" y="1623600"/>
            <a:ext cx="461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’è chi infine preferisce apprendere per tentativi ed errori, coinvolgendo le persone 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far funzionare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” l’esperienz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’insegnate ha il compito di guida sul “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come si fa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Smauro\Documents\mauro1.png"/>
          <p:cNvPicPr/>
          <p:nvPr/>
        </p:nvPicPr>
        <p:blipFill>
          <a:blip r:embed="rId1"/>
          <a:stretch/>
        </p:blipFill>
        <p:spPr>
          <a:xfrm rot="888000">
            <a:off x="4910040" y="2411280"/>
            <a:ext cx="3641760" cy="2556000"/>
          </a:xfrm>
          <a:prstGeom prst="rect">
            <a:avLst/>
          </a:prstGeom>
          <a:ln w="0">
            <a:noFill/>
          </a:ln>
        </p:spPr>
      </p:pic>
      <p:sp>
        <p:nvSpPr>
          <p:cNvPr id="81" name="Segnaposto piè di pagina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79646"/>
                </a:solidFill>
                <a:latin typeface="Calibri"/>
              </a:rPr>
              <a:t>Tempi di attenzione degli studenti durante le lezio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bacc6"/>
                </a:solidFill>
                <a:latin typeface="Calibri"/>
              </a:rPr>
              <a:t>Durante una lezione frontale di tipo classico i docenti dicono circa 100-200 parole al minu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bacc6"/>
                </a:solidFill>
                <a:latin typeface="Calibri"/>
              </a:rPr>
              <a:t>	</a:t>
            </a:r>
            <a:r>
              <a:rPr b="0" lang="it-IT" sz="2600" spc="-1" strike="noStrike">
                <a:solidFill>
                  <a:srgbClr val="4bacc6"/>
                </a:solidFill>
                <a:latin typeface="Calibri"/>
              </a:rPr>
              <a:t>In una situazione di attento ascolto, pare che gli studenti ne ascoltino fra le 50 e le 100 ovvero fra la metà ed un quar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0504d"/>
                </a:solidFill>
                <a:latin typeface="Calibri"/>
              </a:rPr>
              <a:t>Gli studenti faticano a tenere la concentrazione alta per tanto tempo, cosi come vengono “ attraversati “da pensieri che nulla centrano con ciò che sta accadendo in clas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9bbb59"/>
                </a:solidFill>
                <a:latin typeface="Calibri"/>
              </a:rPr>
              <a:t>Gli studenti attuali sono abituati ad una LETTURA TRIDIMENSIONALE (es. ipertesti e strutture a finestre dei siti internet) e meno “abituati” alle lettura bidimensionale (libri e giornali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egnaposto piè di pagina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mau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8:12:25Z</dcterms:created>
  <dc:creator>Smauro</dc:creator>
  <dc:description/>
  <dc:language>en-US</dc:language>
  <cp:lastModifiedBy>Smauro</cp:lastModifiedBy>
  <dcterms:modified xsi:type="dcterms:W3CDTF">2013-02-24T18:19:58Z</dcterms:modified>
  <cp:revision>3</cp:revision>
  <dc:subject/>
  <dc:title>Gli stili di apprendimento.</dc:title>
</cp:coreProperties>
</file>